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407-A46F-4A42-9A7D-71CF576DB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D62-3B27-4132-90E2-27D15047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E6C-F6F4-434B-BAA0-105CA02C9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D21B-63FF-4BC6-9AE2-DAFB3F5F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F39E-614B-412E-B994-0DF33A9D0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43DE-0A18-4909-9A2A-26E92D07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04C9-6184-4E9C-BB90-C1573C4BE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C6FF-8C4F-4C96-A1FB-795ABAD7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BD7F-D226-4360-BC6E-DE885022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7B357-D81E-4D98-91A6-660064A7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2C1D2-2AA8-4911-B6B1-6DBCE3E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064-1943-4A2B-8113-47AA2667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F79F-50BC-419E-A6D7-FBCE9D2A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C3CD-F345-4F3C-9E49-6106F218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552F-7AE2-40B6-AFA9-EC46B747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3590-BADA-4CA3-94A1-FDB728306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D70-157C-4079-A499-AF219E97E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7B11-FFD7-4102-9FAF-63CD337A6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69C1-2C3E-4C74-95B4-4299781D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8EC8-FBAC-42C7-9E5F-11DF37E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9E56-6BD6-4011-A02D-99573E05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9F1E-8E91-410E-956A-13AE1F40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AFC-3BF8-4309-9C21-A322D427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3791-A361-4552-BB84-B7C7A102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" name="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" name="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" name="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" name="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" name="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7" name="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0" name="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3" name="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" name="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" name="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1" name="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2" name="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" name="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" name="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7" name="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8" name="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" name="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7" name="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0" name="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3" name="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6" name="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69" name="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2" name="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" name="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" name="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0" name="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1" name="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" name="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4" name="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" name="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" name="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" name="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" name="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4" name="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DC41-76CC-4D24-8BF3-1FAD72426200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8" name="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51" name="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"/>
                    <p:cNvGrpSpPr/>
                    <p:nvPr/>
                  </p:nvGrpSpPr>
                  <p:grpSpPr>
                    <a:xfrm>
                      <a:off x="742680" y="3811680"/>
                      <a:ext cx="4647960" cy="177840"/>
                      <a:chOff x="742680" y="3811680"/>
                      <a:chExt cx="4647960" cy="177840"/>
                    </a:xfrm>
                  </p:grpSpPr>
                  <p:grpSp>
                    <p:nvGrpSpPr>
                      <p:cNvPr id="153" name=""/>
                      <p:cNvGrpSpPr/>
                      <p:nvPr/>
                    </p:nvGrpSpPr>
                    <p:grpSpPr>
                      <a:xfrm>
                        <a:off x="742680" y="3811680"/>
                        <a:ext cx="663840" cy="177840"/>
                        <a:chOff x="742680" y="3811680"/>
                        <a:chExt cx="663840" cy="177840"/>
                      </a:xfrm>
                    </p:grpSpPr>
                    <p:sp>
                      <p:nvSpPr>
                        <p:cNvPr id="154" name="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5" name=""/>
                        <p:cNvSpPr/>
                        <p:nvPr/>
                      </p:nvSpPr>
                      <p:spPr>
                        <a:xfrm>
                          <a:off x="10710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1406520" y="3811680"/>
                        <a:ext cx="663840" cy="177840"/>
                        <a:chOff x="1406520" y="3811680"/>
                        <a:chExt cx="663840" cy="17784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14065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>
                          <a:off x="17348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070720" y="3811680"/>
                        <a:ext cx="663840" cy="177840"/>
                        <a:chOff x="2070720" y="3811680"/>
                        <a:chExt cx="663840" cy="17784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20707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>
                          <a:off x="239904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2735280" y="3811680"/>
                        <a:ext cx="663120" cy="177840"/>
                        <a:chOff x="2735280" y="3811680"/>
                        <a:chExt cx="663120" cy="17784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273528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>
                          <a:off x="3063240" y="38116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5" name=""/>
                      <p:cNvGrpSpPr/>
                      <p:nvPr/>
                    </p:nvGrpSpPr>
                    <p:grpSpPr>
                      <a:xfrm>
                        <a:off x="3398400" y="3811680"/>
                        <a:ext cx="664200" cy="177840"/>
                        <a:chOff x="3398400" y="3811680"/>
                        <a:chExt cx="664200" cy="177840"/>
                      </a:xfrm>
                    </p:grpSpPr>
                    <p:sp>
                      <p:nvSpPr>
                        <p:cNvPr id="166" name=""/>
                        <p:cNvSpPr/>
                        <p:nvPr/>
                      </p:nvSpPr>
                      <p:spPr>
                        <a:xfrm>
                          <a:off x="339840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7" name=""/>
                        <p:cNvSpPr/>
                        <p:nvPr/>
                      </p:nvSpPr>
                      <p:spPr>
                        <a:xfrm>
                          <a:off x="3726720" y="38116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8" name=""/>
                      <p:cNvGrpSpPr/>
                      <p:nvPr/>
                    </p:nvGrpSpPr>
                    <p:grpSpPr>
                      <a:xfrm>
                        <a:off x="4062600" y="3811680"/>
                        <a:ext cx="663840" cy="177840"/>
                        <a:chOff x="4062600" y="3811680"/>
                        <a:chExt cx="663840" cy="177840"/>
                      </a:xfrm>
                    </p:grpSpPr>
                    <p:sp>
                      <p:nvSpPr>
                        <p:cNvPr id="169" name=""/>
                        <p:cNvSpPr/>
                        <p:nvPr/>
                      </p:nvSpPr>
                      <p:spPr>
                        <a:xfrm>
                          <a:off x="40626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0" name=""/>
                        <p:cNvSpPr/>
                        <p:nvPr/>
                      </p:nvSpPr>
                      <p:spPr>
                        <a:xfrm>
                          <a:off x="43909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71" name=""/>
                      <p:cNvGrpSpPr/>
                      <p:nvPr/>
                    </p:nvGrpSpPr>
                    <p:grpSpPr>
                      <a:xfrm>
                        <a:off x="4726800" y="3811680"/>
                        <a:ext cx="663840" cy="177840"/>
                        <a:chOff x="4726800" y="3811680"/>
                        <a:chExt cx="663840" cy="177840"/>
                      </a:xfrm>
                    </p:grpSpPr>
                    <p:sp>
                      <p:nvSpPr>
                        <p:cNvPr id="172" name=""/>
                        <p:cNvSpPr/>
                        <p:nvPr/>
                      </p:nvSpPr>
                      <p:spPr>
                        <a:xfrm>
                          <a:off x="472680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73" name=""/>
                        <p:cNvSpPr/>
                        <p:nvPr/>
                      </p:nvSpPr>
                      <p:spPr>
                        <a:xfrm>
                          <a:off x="5055120" y="38116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"/>
                    <p:cNvGrpSpPr/>
                    <p:nvPr/>
                  </p:nvGrpSpPr>
                  <p:grpSpPr>
                    <a:xfrm>
                      <a:off x="5391000" y="3810240"/>
                      <a:ext cx="663480" cy="177840"/>
                      <a:chOff x="5391000" y="3810240"/>
                      <a:chExt cx="663480" cy="177840"/>
                    </a:xfrm>
                  </p:grpSpPr>
                  <p:sp>
                    <p:nvSpPr>
                      <p:cNvPr id="175" name=""/>
                      <p:cNvSpPr/>
                      <p:nvPr/>
                    </p:nvSpPr>
                    <p:spPr>
                      <a:xfrm>
                        <a:off x="539100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57189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77" name="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79" name="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0" name=""/>
                    <p:cNvGrpSpPr/>
                    <p:nvPr/>
                  </p:nvGrpSpPr>
                  <p:grpSpPr>
                    <a:xfrm>
                      <a:off x="6719760" y="3810240"/>
                      <a:ext cx="663120" cy="177840"/>
                      <a:chOff x="6719760" y="3810240"/>
                      <a:chExt cx="663120" cy="177840"/>
                    </a:xfrm>
                  </p:grpSpPr>
                  <p:sp>
                    <p:nvSpPr>
                      <p:cNvPr id="181" name=""/>
                      <p:cNvSpPr/>
                      <p:nvPr/>
                    </p:nvSpPr>
                    <p:spPr>
                      <a:xfrm>
                        <a:off x="671976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2" name=""/>
                      <p:cNvSpPr/>
                      <p:nvPr/>
                    </p:nvSpPr>
                    <p:spPr>
                      <a:xfrm>
                        <a:off x="7047720" y="38102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83" name=""/>
                    <p:cNvGrpSpPr/>
                    <p:nvPr/>
                  </p:nvGrpSpPr>
                  <p:grpSpPr>
                    <a:xfrm>
                      <a:off x="7383240" y="3810240"/>
                      <a:ext cx="663840" cy="177840"/>
                      <a:chOff x="7383240" y="3810240"/>
                      <a:chExt cx="663840" cy="177840"/>
                    </a:xfrm>
                  </p:grpSpPr>
                  <p:sp>
                    <p:nvSpPr>
                      <p:cNvPr id="184" name=""/>
                      <p:cNvSpPr/>
                      <p:nvPr/>
                    </p:nvSpPr>
                    <p:spPr>
                      <a:xfrm>
                        <a:off x="738324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85" name=""/>
                      <p:cNvSpPr/>
                      <p:nvPr/>
                    </p:nvSpPr>
                    <p:spPr>
                      <a:xfrm>
                        <a:off x="7711560" y="38102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0" h="96">
                        <a:moveTo>
                          <a:pt x="230" y="0"/>
                        </a:moveTo>
                        <a:lnTo>
                          <a:pt x="182" y="0"/>
                        </a:lnTo>
                        <a:lnTo>
                          <a:pt x="0" y="78"/>
                        </a:lnTo>
                        <a:lnTo>
                          <a:pt x="86" y="96"/>
                        </a:lnTo>
                        <a:lnTo>
                          <a:pt x="204" y="96"/>
                        </a:lnTo>
                        <a:lnTo>
                          <a:pt x="230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90" name="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"/>
                    <p:cNvGrpSpPr/>
                    <p:nvPr/>
                  </p:nvGrpSpPr>
                  <p:grpSpPr>
                    <a:xfrm>
                      <a:off x="726840" y="3809880"/>
                      <a:ext cx="4647960" cy="177840"/>
                      <a:chOff x="726840" y="3809880"/>
                      <a:chExt cx="4647960" cy="177840"/>
                    </a:xfrm>
                  </p:grpSpPr>
                  <p:grpSp>
                    <p:nvGrpSpPr>
                      <p:cNvPr id="192" name=""/>
                      <p:cNvGrpSpPr/>
                      <p:nvPr/>
                    </p:nvGrpSpPr>
                    <p:grpSpPr>
                      <a:xfrm>
                        <a:off x="726840" y="3809880"/>
                        <a:ext cx="663840" cy="177840"/>
                        <a:chOff x="726840" y="3809880"/>
                        <a:chExt cx="663840" cy="177840"/>
                      </a:xfrm>
                    </p:grpSpPr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10551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5" name=""/>
                      <p:cNvGrpSpPr/>
                      <p:nvPr/>
                    </p:nvGrpSpPr>
                    <p:grpSpPr>
                      <a:xfrm>
                        <a:off x="1390680" y="3809880"/>
                        <a:ext cx="663840" cy="177840"/>
                        <a:chOff x="1390680" y="3809880"/>
                        <a:chExt cx="663840" cy="177840"/>
                      </a:xfrm>
                    </p:grpSpPr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13906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17190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98" name=""/>
                      <p:cNvGrpSpPr/>
                      <p:nvPr/>
                    </p:nvGrpSpPr>
                    <p:grpSpPr>
                      <a:xfrm>
                        <a:off x="2054880" y="3809880"/>
                        <a:ext cx="663840" cy="177840"/>
                        <a:chOff x="2054880" y="3809880"/>
                        <a:chExt cx="663840" cy="177840"/>
                      </a:xfrm>
                    </p:grpSpPr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0548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38320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1" name=""/>
                      <p:cNvGrpSpPr/>
                      <p:nvPr/>
                    </p:nvGrpSpPr>
                    <p:grpSpPr>
                      <a:xfrm>
                        <a:off x="2719440" y="3809880"/>
                        <a:ext cx="663120" cy="177840"/>
                        <a:chOff x="2719440" y="3809880"/>
                        <a:chExt cx="663120" cy="177840"/>
                      </a:xfrm>
                    </p:grpSpPr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1944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3047400" y="3809880"/>
                          <a:ext cx="33516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4" name=""/>
                      <p:cNvGrpSpPr/>
                      <p:nvPr/>
                    </p:nvGrpSpPr>
                    <p:grpSpPr>
                      <a:xfrm>
                        <a:off x="3382560" y="3809880"/>
                        <a:ext cx="664200" cy="177840"/>
                        <a:chOff x="3382560" y="3809880"/>
                        <a:chExt cx="664200" cy="177840"/>
                      </a:xfrm>
                    </p:grpSpPr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338256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3710880" y="3809880"/>
                          <a:ext cx="33588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07" name=""/>
                      <p:cNvGrpSpPr/>
                      <p:nvPr/>
                    </p:nvGrpSpPr>
                    <p:grpSpPr>
                      <a:xfrm>
                        <a:off x="4046760" y="3809880"/>
                        <a:ext cx="663840" cy="177840"/>
                        <a:chOff x="4046760" y="3809880"/>
                        <a:chExt cx="663840" cy="177840"/>
                      </a:xfrm>
                    </p:grpSpPr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40467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43750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10" name=""/>
                      <p:cNvGrpSpPr/>
                      <p:nvPr/>
                    </p:nvGrpSpPr>
                    <p:grpSpPr>
                      <a:xfrm>
                        <a:off x="4710960" y="3809880"/>
                        <a:ext cx="663840" cy="177840"/>
                        <a:chOff x="4710960" y="3809880"/>
                        <a:chExt cx="663840" cy="177840"/>
                      </a:xfrm>
                    </p:grpSpPr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>
                          <a:off x="471096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>
                          <a:off x="5039280" y="3809880"/>
                          <a:ext cx="335520" cy="1778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12" h="1064">
                              <a:moveTo>
                                <a:pt x="0" y="54"/>
                              </a:moveTo>
                              <a:lnTo>
                                <a:pt x="0" y="1064"/>
                              </a:lnTo>
                              <a:lnTo>
                                <a:pt x="236" y="1064"/>
                              </a:lnTo>
                              <a:cubicBezTo>
                                <a:pt x="234" y="8"/>
                                <a:pt x="1770" y="0"/>
                                <a:pt x="1772" y="1064"/>
                              </a:cubicBezTo>
                              <a:lnTo>
                                <a:pt x="2012" y="1064"/>
                              </a:lnTo>
                              <a:lnTo>
                                <a:pt x="2012" y="54"/>
                              </a:lnTo>
                              <a:lnTo>
                                <a:pt x="0" y="5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eaeaea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"/>
                    <p:cNvGrpSpPr/>
                    <p:nvPr/>
                  </p:nvGrpSpPr>
                  <p:grpSpPr>
                    <a:xfrm>
                      <a:off x="5375160" y="3808440"/>
                      <a:ext cx="663480" cy="177840"/>
                      <a:chOff x="5375160" y="3808440"/>
                      <a:chExt cx="663480" cy="177840"/>
                    </a:xfrm>
                  </p:grpSpPr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537516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57031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19" name=""/>
                    <p:cNvGrpSpPr/>
                    <p:nvPr/>
                  </p:nvGrpSpPr>
                  <p:grpSpPr>
                    <a:xfrm>
                      <a:off x="6703920" y="3808440"/>
                      <a:ext cx="663120" cy="177840"/>
                      <a:chOff x="6703920" y="3808440"/>
                      <a:chExt cx="663120" cy="177840"/>
                    </a:xfrm>
                  </p:grpSpPr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670392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1" name=""/>
                      <p:cNvSpPr/>
                      <p:nvPr/>
                    </p:nvSpPr>
                    <p:spPr>
                      <a:xfrm>
                        <a:off x="7031880" y="3808440"/>
                        <a:ext cx="33516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2" name=""/>
                    <p:cNvGrpSpPr/>
                    <p:nvPr/>
                  </p:nvGrpSpPr>
                  <p:grpSpPr>
                    <a:xfrm>
                      <a:off x="7367400" y="3808440"/>
                      <a:ext cx="663840" cy="177840"/>
                      <a:chOff x="7367400" y="3808440"/>
                      <a:chExt cx="663840" cy="177840"/>
                    </a:xfrm>
                  </p:grpSpPr>
                  <p:sp>
                    <p:nvSpPr>
                      <p:cNvPr id="223" name=""/>
                      <p:cNvSpPr/>
                      <p:nvPr/>
                    </p:nvSpPr>
                    <p:spPr>
                      <a:xfrm>
                        <a:off x="736740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>
                        <a:off x="7695720" y="3808440"/>
                        <a:ext cx="335520" cy="177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2" h="1064">
                            <a:moveTo>
                              <a:pt x="0" y="54"/>
                            </a:moveTo>
                            <a:lnTo>
                              <a:pt x="0" y="1064"/>
                            </a:lnTo>
                            <a:lnTo>
                              <a:pt x="236" y="1064"/>
                            </a:lnTo>
                            <a:cubicBezTo>
                              <a:pt x="234" y="8"/>
                              <a:pt x="1770" y="0"/>
                              <a:pt x="1772" y="1064"/>
                            </a:cubicBezTo>
                            <a:lnTo>
                              <a:pt x="2012" y="1064"/>
                            </a:lnTo>
                            <a:lnTo>
                              <a:pt x="2012" y="54"/>
                            </a:lnTo>
                            <a:lnTo>
                              <a:pt x="0" y="54"/>
                            </a:lnTo>
                            <a:close/>
                          </a:path>
                        </a:pathLst>
                      </a:cu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eaeaea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2" h="1064">
                          <a:moveTo>
                            <a:pt x="0" y="54"/>
                          </a:moveTo>
                          <a:lnTo>
                            <a:pt x="0" y="1064"/>
                          </a:lnTo>
                          <a:lnTo>
                            <a:pt x="236" y="1064"/>
                          </a:lnTo>
                          <a:cubicBezTo>
                            <a:pt x="234" y="8"/>
                            <a:pt x="1770" y="0"/>
                            <a:pt x="1772" y="1064"/>
                          </a:cubicBezTo>
                          <a:lnTo>
                            <a:pt x="2012" y="1064"/>
                          </a:lnTo>
                          <a:lnTo>
                            <a:pt x="2012" y="54"/>
                          </a:lnTo>
                          <a:lnTo>
                            <a:pt x="0" y="54"/>
                          </a:lnTo>
                          <a:close/>
                        </a:path>
                      </a:pathLst>
                    </a:cu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0" h="2766">
                        <a:moveTo>
                          <a:pt x="1183" y="0"/>
                        </a:moveTo>
                        <a:cubicBezTo>
                          <a:pt x="31" y="34"/>
                          <a:pt x="0" y="1232"/>
                          <a:pt x="278" y="1706"/>
                        </a:cubicBezTo>
                        <a:cubicBezTo>
                          <a:pt x="888" y="2766"/>
                          <a:pt x="2570" y="2078"/>
                          <a:pt x="2006" y="913"/>
                        </a:cubicBezTo>
                        <a:cubicBezTo>
                          <a:pt x="1480" y="86"/>
                          <a:pt x="309" y="751"/>
                          <a:pt x="735" y="1519"/>
                        </a:cubicBezTo>
                        <a:cubicBezTo>
                          <a:pt x="1085" y="2095"/>
                          <a:pt x="2037" y="1686"/>
                          <a:pt x="1661" y="1060"/>
                        </a:cubicBezTo>
                        <a:cubicBezTo>
                          <a:pt x="1411" y="668"/>
                          <a:pt x="776" y="977"/>
                          <a:pt x="1060" y="1394"/>
                        </a:cubicBezTo>
                        <a:cubicBezTo>
                          <a:pt x="1252" y="1653"/>
                          <a:pt x="1647" y="1455"/>
                          <a:pt x="1489" y="1187"/>
                        </a:cubicBezTo>
                        <a:cubicBezTo>
                          <a:pt x="1389" y="1046"/>
                          <a:pt x="1055" y="1113"/>
                          <a:pt x="1255" y="1355"/>
                        </a:cubicBezTo>
                        <a:cubicBezTo>
                          <a:pt x="1185" y="1378"/>
                          <a:pt x="1221" y="1037"/>
                          <a:pt x="1430" y="1221"/>
                        </a:cubicBezTo>
                        <a:cubicBezTo>
                          <a:pt x="1522" y="1329"/>
                          <a:pt x="1328" y="1570"/>
                          <a:pt x="1144" y="1403"/>
                        </a:cubicBezTo>
                        <a:cubicBezTo>
                          <a:pt x="869" y="1019"/>
                          <a:pt x="1486" y="835"/>
                          <a:pt x="1611" y="1144"/>
                        </a:cubicBezTo>
                        <a:cubicBezTo>
                          <a:pt x="1803" y="1494"/>
                          <a:pt x="1244" y="1970"/>
                          <a:pt x="843" y="1503"/>
                        </a:cubicBezTo>
                        <a:cubicBezTo>
                          <a:pt x="467" y="868"/>
                          <a:pt x="1441" y="259"/>
                          <a:pt x="1876" y="960"/>
                        </a:cubicBezTo>
                        <a:cubicBezTo>
                          <a:pt x="2288" y="1625"/>
                          <a:pt x="1142" y="2588"/>
                          <a:pt x="474" y="1620"/>
                        </a:cubicBezTo>
                        <a:cubicBezTo>
                          <a:pt x="341" y="1336"/>
                          <a:pt x="221" y="417"/>
                          <a:pt x="1158" y="267"/>
                        </a:cubicBezTo>
                        <a:lnTo>
                          <a:pt x="1183" y="0"/>
                        </a:lnTo>
                        <a:close/>
                      </a:path>
                    </a:pathLst>
                  </a:cu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9" name="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custGeom>
                  <a:avLst/>
                  <a:gdLst/>
                  <a:ahLst/>
                  <a:rect l="l" t="t" r="r" b="b"/>
                  <a:pathLst>
                    <a:path w="2570" h="2766">
                      <a:moveTo>
                        <a:pt x="1183" y="0"/>
                      </a:moveTo>
                      <a:cubicBezTo>
                        <a:pt x="31" y="34"/>
                        <a:pt x="0" y="1232"/>
                        <a:pt x="278" y="1706"/>
                      </a:cubicBezTo>
                      <a:cubicBezTo>
                        <a:pt x="888" y="2766"/>
                        <a:pt x="2570" y="2078"/>
                        <a:pt x="2006" y="913"/>
                      </a:cubicBezTo>
                      <a:cubicBezTo>
                        <a:pt x="1480" y="86"/>
                        <a:pt x="309" y="751"/>
                        <a:pt x="735" y="1519"/>
                      </a:cubicBezTo>
                      <a:cubicBezTo>
                        <a:pt x="1085" y="2095"/>
                        <a:pt x="2037" y="1686"/>
                        <a:pt x="1661" y="1060"/>
                      </a:cubicBezTo>
                      <a:cubicBezTo>
                        <a:pt x="1411" y="668"/>
                        <a:pt x="776" y="977"/>
                        <a:pt x="1060" y="1394"/>
                      </a:cubicBezTo>
                      <a:cubicBezTo>
                        <a:pt x="1252" y="1653"/>
                        <a:pt x="1647" y="1455"/>
                        <a:pt x="1489" y="1187"/>
                      </a:cubicBezTo>
                      <a:cubicBezTo>
                        <a:pt x="1389" y="1046"/>
                        <a:pt x="1055" y="1113"/>
                        <a:pt x="1255" y="1355"/>
                      </a:cubicBezTo>
                      <a:cubicBezTo>
                        <a:pt x="1185" y="1378"/>
                        <a:pt x="1221" y="1037"/>
                        <a:pt x="1430" y="1221"/>
                      </a:cubicBezTo>
                      <a:cubicBezTo>
                        <a:pt x="1522" y="1329"/>
                        <a:pt x="1328" y="1570"/>
                        <a:pt x="1144" y="1403"/>
                      </a:cubicBezTo>
                      <a:cubicBezTo>
                        <a:pt x="869" y="1019"/>
                        <a:pt x="1486" y="835"/>
                        <a:pt x="1611" y="1144"/>
                      </a:cubicBezTo>
                      <a:cubicBezTo>
                        <a:pt x="1803" y="1494"/>
                        <a:pt x="1244" y="1970"/>
                        <a:pt x="843" y="1503"/>
                      </a:cubicBezTo>
                      <a:cubicBezTo>
                        <a:pt x="467" y="868"/>
                        <a:pt x="1441" y="259"/>
                        <a:pt x="1876" y="960"/>
                      </a:cubicBezTo>
                      <a:cubicBezTo>
                        <a:pt x="2288" y="1625"/>
                        <a:pt x="1142" y="2588"/>
                        <a:pt x="474" y="1620"/>
                      </a:cubicBezTo>
                      <a:cubicBezTo>
                        <a:pt x="341" y="1336"/>
                        <a:pt x="221" y="417"/>
                        <a:pt x="1158" y="267"/>
                      </a:cubicBezTo>
                      <a:lnTo>
                        <a:pt x="1183" y="0"/>
                      </a:lnTo>
                      <a:close/>
                    </a:path>
                  </a:pathLst>
                </a:cu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0F33-2C93-40E0-9749-DEAF3218A8C2}" type="slidenum">
              <a:rPr b="0" i="1" lang="en-U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odrobné predstavenie motocyklov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ezentáciu vytvoril Christian Bielik 9.A ZŠ Podolie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133720" y="838080"/>
            <a:ext cx="4724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Honda-Motocykl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ástupca niekdajšej vzduchom chladenej XR 600 R je skvelou voľbou pre jazdcov, ktorí sa pohybujú výlučne mimo cesty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666880" y="838080"/>
            <a:ext cx="3657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onda XR 600R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86" name="Bez%20názvu%201" descr=""/>
          <p:cNvPicPr/>
          <p:nvPr/>
        </p:nvPicPr>
        <p:blipFill>
          <a:blip r:embed="rId2"/>
          <a:stretch/>
        </p:blipFill>
        <p:spPr>
          <a:xfrm>
            <a:off x="2666880" y="3624120"/>
            <a:ext cx="382284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2590920" y="762120"/>
            <a:ext cx="4114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Honda CBR 600RR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288" name="Bez%20názvu%201" descr=""/>
          <p:cNvPicPr/>
          <p:nvPr/>
        </p:nvPicPr>
        <p:blipFill>
          <a:blip r:embed="rId1"/>
          <a:stretch/>
        </p:blipFill>
        <p:spPr>
          <a:xfrm>
            <a:off x="5791320" y="4387680"/>
            <a:ext cx="3352680" cy="247032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Honda tohtoročnou novinkou CBR 600 RR mnohým vyrazila dych a prelomila tradíciu nie príliš ostrých,ale zato vyvážených a univerzálnych CBR 600.Už dve „R“ v názve novej šesťstovky prezrádzajú,že ide o výlučne športový motocykel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838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731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 tomto svojom prvom štvortaktnom motokrosovom modelu použila Honda veľa častí a technických riešení z dvojtaktných modelov,ako napríklad hliníkový rám typu deltabox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133720" y="838080"/>
            <a:ext cx="44956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HONDA CRF 45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93" name="Bez%20názvu%201" descr=""/>
          <p:cNvPicPr/>
          <p:nvPr/>
        </p:nvPicPr>
        <p:blipFill>
          <a:blip r:embed="rId4"/>
          <a:stretch/>
        </p:blipFill>
        <p:spPr>
          <a:xfrm>
            <a:off x="3733920" y="4008600"/>
            <a:ext cx="39272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1:22:37Z</dcterms:created>
  <dc:creator>compaq</dc:creator>
  <dc:description/>
  <dc:language>en-US</dc:language>
  <cp:lastModifiedBy>Compaq D300vm Infovek</cp:lastModifiedBy>
  <dcterms:modified xsi:type="dcterms:W3CDTF">2003-03-14T15:10:47Z</dcterms:modified>
  <cp:revision>9</cp:revision>
  <dc:subject/>
  <dc:title>HONDA-Enduro</dc:title>
</cp:coreProperties>
</file>